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F409-7945-4D80-9584-9A14C1523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7D7F-F29E-4BDA-AAF6-5965CDDC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1633-CE31-4397-BD8F-AB55B9D2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CEFA-0F8C-4D29-A8F4-182EEBCDD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B44F-7E14-42F7-885D-10DFD1FD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355F-0D31-461F-98B8-4D81F219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A154-3D6A-4C89-B9B2-737618FD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6F43-2F9E-45A9-9A06-C48F157F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96CA-1F98-4EDD-91C9-857BECC7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BB30-DC94-4801-BEDE-68343BCC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2735-EC56-45FA-83AB-4E54A8EC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44EF-9D0F-4B09-937A-98DD7CF8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40AB-0BF1-44EB-8C6F-40F1B26BD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ardsci.com/product.asp_Q_pn_E_IG0009334_A_Polyhedral+Alcohol+Burner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Kyle Herd and Shannon Mar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480" y="1371600"/>
            <a:ext cx="76964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2">
                    <a:alphaModFix amt="5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emperature Differences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3">
                  <a:alphaModFix amt="5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380880" y="4495680"/>
            <a:ext cx="1879560" cy="2057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6629400" y="4724280"/>
            <a:ext cx="1905120" cy="18162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ungsuh"/>
              </a:rPr>
              <a:t>Purpose and 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ungsu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ungsuh"/>
              </a:rPr>
              <a:t>Purpose- How does the temperature change when the different temperatures of water are added to cold wa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ungsu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ungsuh"/>
              </a:rPr>
              <a:t>Hypothesis- The room temperature water will turn cold and the hot water will turn room temperatur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Polyhedral Alcohol Burne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43400" y="5181480"/>
            <a:ext cx="2209680" cy="15242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Variables and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ndependent Variable- The temperature of the water being ad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pendent Variable- The mixed tempera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648320" y="1905120"/>
          <a:ext cx="3886200" cy="2230200"/>
        </p:xfrm>
        <a:graphic>
          <a:graphicData uri="http://schemas.openxmlformats.org/drawingml/2006/table">
            <a:tbl>
              <a:tblPr/>
              <a:tblGrid>
                <a:gridCol w="2286000"/>
                <a:gridCol w="1600200"/>
              </a:tblGrid>
              <a:tr h="16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Mix of Room Temperature and Co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Mix of Hot and Co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 tri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 tri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50000">
              <a:srgbClr val="00ff00"/>
            </a:gs>
            <a:gs pos="100000">
              <a:srgbClr val="cc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Bodoni MT Black"/>
              </a:rPr>
              <a:t>Constants and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00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Bradley Hand ITC"/>
              </a:rPr>
              <a:t>Constants- volume, temperature sen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00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Bradley Hand ITC"/>
              </a:rPr>
              <a:t>Procedures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00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Bradley Hand ITC"/>
              </a:rPr>
              <a:t>1. Measure 20mL of cold water, water, and room temperature water and put each temperature water in a separate be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Bradley Hand ITC"/>
              </a:rPr>
              <a:t>2.Set up the temperature sens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Bradley Hand ITC"/>
              </a:rPr>
              <a:t>3.To make the water become hot, place it over the alcohol burner until it is at 60 degr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Bradley Hand ITC"/>
              </a:rPr>
              <a:t>4.Mix the hot and cold water and rec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Bradley Hand ITC"/>
              </a:rPr>
              <a:t>5.Mix the room temperature water with the cold water and record the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CHRIS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52280" y="1447920"/>
            <a:ext cx="4648320" cy="479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5181480" y="1260360"/>
          <a:ext cx="3505320" cy="5504040"/>
        </p:xfrm>
        <a:graphic>
          <a:graphicData uri="http://schemas.openxmlformats.org/drawingml/2006/table">
            <a:tbl>
              <a:tblPr/>
              <a:tblGrid>
                <a:gridCol w="1219320"/>
                <a:gridCol w="1143000"/>
                <a:gridCol w="1143000"/>
              </a:tblGrid>
              <a:tr h="147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Water Temp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rial 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rial    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Mix of hot and co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31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41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Mix of room temp. and col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8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8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5470560" y="2932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Broadway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roadway"/>
              </a:rPr>
              <a:t>During this lab, we expected the mix of the cold and hot water to be room temperature, but it was higher than t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Broadway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roadway"/>
              </a:rPr>
              <a:t>We thought the mix of the room temperature and the cold water would be a low temperature, but it was higher than we thou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Broadway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roadway"/>
              </a:rPr>
              <a:t>The hot and cold water mix was near what we expected ,but the room temperature and cold mix didn’t have a big change like we thought it wou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checker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7:21:22Z</dcterms:created>
  <dc:creator>default</dc:creator>
  <dc:description/>
  <dc:language>en-US</dc:language>
  <cp:lastModifiedBy>default</cp:lastModifiedBy>
  <dcterms:modified xsi:type="dcterms:W3CDTF">2008-01-04T15:42:31Z</dcterms:modified>
  <cp:revision>13</cp:revision>
  <dc:subject/>
  <dc:title>Slide 1</dc:title>
</cp:coreProperties>
</file>